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91C1-B03D-46C0-A5C9-272C01AE2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73C1-9ADD-4BA1-9F5C-B1C85181EB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786A-B737-4E4A-9F6A-C2E06A4F43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AA11-1F37-4FE5-A4E5-C5F93B8BE4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C201-5B26-426F-8975-10929D6D2A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84BE-583A-4524-B9EE-863FECB133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936C-0A37-4919-8FAB-0AD4D29E42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C266-9F61-4B12-A38C-329E711C35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9B4-8FE2-455E-B240-470EED44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469-C6AF-4721-A453-DC4D3932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B19-4A11-4E92-83EC-04C62C13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F5B-3DA3-45D1-A581-6BCEA6D5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1CF5-66C3-41CE-B4FD-ED7C4F07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D386-7060-4BA0-B23D-69B105D8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6FCA-73FC-4336-8F9E-BE4069E5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95E0-C938-498B-B7E4-B22452F8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611E-C10F-4AC7-BCAB-926DF0A8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789E-0AEC-429D-987F-2008635B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CA29-D100-417F-A54A-53C43026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D32-0B93-4291-816D-D380BAB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1851-8E45-400F-B29E-BFD7C3D8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9991-431A-43DB-85F3-675617FA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AA4E-BE95-47D5-9F54-39409C60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D908-628A-4C15-AF23-AFEE6B0B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387A-0389-4BE2-8662-61931040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F9B-0601-48A1-A980-77E11BA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9B1-42F4-4CE4-99EA-6C41FF8F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74C-AA7A-46D4-94D1-35056BE4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DFC-BE27-4CD1-AA8A-7E792456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75D-47A9-41EA-A9DD-04C6C018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B9C-A1F5-48B4-A5C2-2846F20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868-CC20-446E-A79B-CF9A0D1A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5A03-FBFE-4006-9C54-ADC9EF5DF73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D29D-8119-40E5-8E18-3E2EBA6F0B2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Owner\Local Settings\Temporary Internet Files\Content.IE5\7PPHA3EV\MCj02990730000[1].wmf"/>
          <p:cNvPicPr/>
          <p:nvPr/>
        </p:nvPicPr>
        <p:blipFill>
          <a:blip r:embed="rId2"/>
          <a:stretch/>
        </p:blipFill>
        <p:spPr>
          <a:xfrm>
            <a:off x="476280" y="1994040"/>
            <a:ext cx="3797280" cy="704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Owner\Local Settings\Temporary Internet Files\Content.IE5\A94D9TBF\MCPE07665_0000[1].wmf"/>
          <p:cNvPicPr/>
          <p:nvPr/>
        </p:nvPicPr>
        <p:blipFill>
          <a:blip r:embed="rId3"/>
          <a:stretch/>
        </p:blipFill>
        <p:spPr>
          <a:xfrm>
            <a:off x="4906800" y="1779480"/>
            <a:ext cx="3535560" cy="8607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95280" y="333360"/>
            <a:ext cx="856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ever chemical reactions occur, energy is transferred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fro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24000" y="2852640"/>
            <a:ext cx="8424720" cy="106884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exothermi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reaction is one which transfers heat energ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reaction is one which takes heat energ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fro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66596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76676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86043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V="1">
            <a:off x="478944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V="1">
            <a:off x="586908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 flipV="1">
            <a:off x="19065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V="1">
            <a:off x="291456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85128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 flipV="1">
            <a:off x="1116000" y="2491920"/>
            <a:ext cx="0" cy="360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2700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1908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50"/>
          <p:cNvSpPr/>
          <p:nvPr/>
        </p:nvSpPr>
        <p:spPr>
          <a:xfrm>
            <a:off x="104472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3492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>
            <a:off x="5940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>
            <a:off x="5148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>
            <a:off x="4356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60"/>
          <p:cNvSpPr/>
          <p:nvPr/>
        </p:nvSpPr>
        <p:spPr>
          <a:xfrm>
            <a:off x="759636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1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>
            <a:off x="831708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V="1">
            <a:off x="8748720" y="2923920"/>
            <a:ext cx="395280" cy="21564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68"/>
          <p:cNvSpPr/>
          <p:nvPr/>
        </p:nvSpPr>
        <p:spPr>
          <a:xfrm>
            <a:off x="8748720" y="3716280"/>
            <a:ext cx="395280" cy="14436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9"/>
          <p:cNvSpPr/>
          <p:nvPr/>
        </p:nvSpPr>
        <p:spPr>
          <a:xfrm>
            <a:off x="324000" y="3933720"/>
            <a:ext cx="0" cy="43200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0"/>
          <p:cNvSpPr/>
          <p:nvPr/>
        </p:nvSpPr>
        <p:spPr>
          <a:xfrm flipH="1">
            <a:off x="0" y="3716280"/>
            <a:ext cx="324000" cy="28908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2"/>
          <p:cNvSpPr/>
          <p:nvPr/>
        </p:nvSpPr>
        <p:spPr>
          <a:xfrm flipH="1" flipV="1">
            <a:off x="0" y="2852640"/>
            <a:ext cx="324000" cy="144720"/>
          </a:xfrm>
          <a:prstGeom prst="line">
            <a:avLst/>
          </a:prstGeom>
          <a:ln w="57240">
            <a:solidFill>
              <a:srgbClr val="d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75"/>
          <p:cNvSpPr/>
          <p:nvPr/>
        </p:nvSpPr>
        <p:spPr>
          <a:xfrm>
            <a:off x="2268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76"/>
          <p:cNvSpPr/>
          <p:nvPr/>
        </p:nvSpPr>
        <p:spPr>
          <a:xfrm>
            <a:off x="1476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8"/>
          <p:cNvSpPr/>
          <p:nvPr/>
        </p:nvSpPr>
        <p:spPr>
          <a:xfrm>
            <a:off x="104472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79"/>
          <p:cNvSpPr/>
          <p:nvPr/>
        </p:nvSpPr>
        <p:spPr>
          <a:xfrm>
            <a:off x="3924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80"/>
          <p:cNvSpPr/>
          <p:nvPr/>
        </p:nvSpPr>
        <p:spPr>
          <a:xfrm>
            <a:off x="3132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2"/>
          <p:cNvSpPr/>
          <p:nvPr/>
        </p:nvSpPr>
        <p:spPr>
          <a:xfrm>
            <a:off x="6372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83"/>
          <p:cNvSpPr/>
          <p:nvPr/>
        </p:nvSpPr>
        <p:spPr>
          <a:xfrm>
            <a:off x="5580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7"/>
          <p:cNvSpPr/>
          <p:nvPr/>
        </p:nvSpPr>
        <p:spPr>
          <a:xfrm>
            <a:off x="4716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90"/>
          <p:cNvSpPr/>
          <p:nvPr/>
        </p:nvSpPr>
        <p:spPr>
          <a:xfrm>
            <a:off x="716436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1"/>
          <p:cNvSpPr/>
          <p:nvPr/>
        </p:nvSpPr>
        <p:spPr>
          <a:xfrm>
            <a:off x="867564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92"/>
          <p:cNvSpPr/>
          <p:nvPr/>
        </p:nvSpPr>
        <p:spPr>
          <a:xfrm>
            <a:off x="795672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95"/>
          <p:cNvSpPr/>
          <p:nvPr/>
        </p:nvSpPr>
        <p:spPr>
          <a:xfrm>
            <a:off x="324000" y="4724280"/>
            <a:ext cx="0" cy="432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8"/>
          <p:cNvSpPr/>
          <p:nvPr/>
        </p:nvSpPr>
        <p:spPr>
          <a:xfrm flipV="1">
            <a:off x="716436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0"/>
          <p:cNvSpPr/>
          <p:nvPr/>
        </p:nvSpPr>
        <p:spPr>
          <a:xfrm flipV="1">
            <a:off x="817236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02"/>
          <p:cNvSpPr/>
          <p:nvPr/>
        </p:nvSpPr>
        <p:spPr>
          <a:xfrm flipV="1">
            <a:off x="4284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04"/>
          <p:cNvSpPr/>
          <p:nvPr/>
        </p:nvSpPr>
        <p:spPr>
          <a:xfrm flipV="1">
            <a:off x="536580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06"/>
          <p:cNvSpPr/>
          <p:nvPr/>
        </p:nvSpPr>
        <p:spPr>
          <a:xfrm flipV="1">
            <a:off x="6300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8"/>
          <p:cNvSpPr/>
          <p:nvPr/>
        </p:nvSpPr>
        <p:spPr>
          <a:xfrm flipV="1">
            <a:off x="241128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0"/>
          <p:cNvSpPr/>
          <p:nvPr/>
        </p:nvSpPr>
        <p:spPr>
          <a:xfrm flipV="1">
            <a:off x="341964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2"/>
          <p:cNvSpPr/>
          <p:nvPr/>
        </p:nvSpPr>
        <p:spPr>
          <a:xfrm flipV="1">
            <a:off x="61272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14"/>
          <p:cNvSpPr/>
          <p:nvPr/>
        </p:nvSpPr>
        <p:spPr>
          <a:xfrm flipV="1">
            <a:off x="1547640" y="616536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6"/>
          <p:cNvSpPr/>
          <p:nvPr/>
        </p:nvSpPr>
        <p:spPr>
          <a:xfrm flipH="1">
            <a:off x="8748720" y="5013360"/>
            <a:ext cx="395280" cy="28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7"/>
          <p:cNvSpPr/>
          <p:nvPr/>
        </p:nvSpPr>
        <p:spPr>
          <a:xfrm flipH="1" flipV="1">
            <a:off x="8748720" y="6021000"/>
            <a:ext cx="395280" cy="716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19"/>
          <p:cNvSpPr/>
          <p:nvPr/>
        </p:nvSpPr>
        <p:spPr>
          <a:xfrm>
            <a:off x="0" y="5084640"/>
            <a:ext cx="250920" cy="2890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20"/>
          <p:cNvSpPr/>
          <p:nvPr/>
        </p:nvSpPr>
        <p:spPr>
          <a:xfrm flipV="1">
            <a:off x="0" y="6022800"/>
            <a:ext cx="250920" cy="2145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55640" y="549360"/>
          <a:ext cx="7848720" cy="3098880"/>
        </p:xfrm>
        <a:graphic>
          <a:graphicData uri="http://schemas.openxmlformats.org/drawingml/2006/table">
            <a:tbl>
              <a:tblPr/>
              <a:tblGrid>
                <a:gridCol w="1655640"/>
                <a:gridCol w="2089440"/>
                <a:gridCol w="2016000"/>
                <a:gridCol w="20876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rting temp.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º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 temp.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º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othermic or endother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+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+ 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+ 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ffd6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95"/>
          <p:cNvSpPr/>
          <p:nvPr/>
        </p:nvSpPr>
        <p:spPr>
          <a:xfrm>
            <a:off x="250920" y="3933720"/>
            <a:ext cx="871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.Decide whether each of the above reactions is exothermic or endotherm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. If the volume of solution was the same in each reaction. Which had the largest energy chan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95280" y="1125360"/>
          <a:ext cx="8569440" cy="5318280"/>
        </p:xfrm>
        <a:graphic>
          <a:graphicData uri="http://schemas.openxmlformats.org/drawingml/2006/table">
            <a:tbl>
              <a:tblPr/>
              <a:tblGrid>
                <a:gridCol w="2952720"/>
                <a:gridCol w="3529080"/>
                <a:gridCol w="208764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ergy chang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ve: energy given ou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ve: energy taken 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othermic or endother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 + Oxy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monium chloride +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ucose + Oxy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monium chlorid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mmonia + Hydrogen chlor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trogen + Hydr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df1c3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79280"/>
            <a:ext cx="8962920" cy="59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a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versibl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chemical reactions, the products of the reaction can react to produce the original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reversible reaction is denoted by the double arr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 + B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cb084"/>
                </a:solidFill>
                <a:latin typeface="Comic Sans MS"/>
              </a:rPr>
              <a:t>C +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 &amp; B are reactants</a:t>
            </a: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C &amp; D are products</a:t>
            </a:r>
            <a:r>
              <a:rPr b="0" lang="en-GB" sz="3200" spc="-1" strike="noStrike">
                <a:solidFill>
                  <a:srgbClr val="9cb084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a reversible reaction is exothermic in one direction. It is endothermic in the other 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62"/>
          <p:cNvGrpSpPr/>
          <p:nvPr/>
        </p:nvGrpSpPr>
        <p:grpSpPr>
          <a:xfrm>
            <a:off x="3214800" y="4071600"/>
            <a:ext cx="1799280" cy="360360"/>
            <a:chOff x="3214800" y="4071600"/>
            <a:chExt cx="1799280" cy="360360"/>
          </a:xfrm>
        </p:grpSpPr>
        <p:grpSp>
          <p:nvGrpSpPr>
            <p:cNvPr id="149" name="Group 63"/>
            <p:cNvGrpSpPr/>
            <p:nvPr/>
          </p:nvGrpSpPr>
          <p:grpSpPr>
            <a:xfrm>
              <a:off x="3214800" y="4071600"/>
              <a:ext cx="1799280" cy="72720"/>
              <a:chOff x="3214800" y="4071600"/>
              <a:chExt cx="1799280" cy="72720"/>
            </a:xfrm>
          </p:grpSpPr>
          <p:sp>
            <p:nvSpPr>
              <p:cNvPr id="150" name="Line 64"/>
              <p:cNvSpPr/>
              <p:nvPr/>
            </p:nvSpPr>
            <p:spPr>
              <a:xfrm>
                <a:off x="3214800" y="4144320"/>
                <a:ext cx="179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65"/>
              <p:cNvSpPr/>
              <p:nvPr/>
            </p:nvSpPr>
            <p:spPr>
              <a:xfrm flipH="1" flipV="1">
                <a:off x="4349880" y="4071600"/>
                <a:ext cx="663480" cy="72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6"/>
            <p:cNvGrpSpPr/>
            <p:nvPr/>
          </p:nvGrpSpPr>
          <p:grpSpPr>
            <a:xfrm>
              <a:off x="3214800" y="4359240"/>
              <a:ext cx="1799280" cy="72720"/>
              <a:chOff x="3214800" y="4359240"/>
              <a:chExt cx="1799280" cy="72720"/>
            </a:xfrm>
          </p:grpSpPr>
          <p:sp>
            <p:nvSpPr>
              <p:cNvPr id="153" name="Line 67"/>
              <p:cNvSpPr/>
              <p:nvPr/>
            </p:nvSpPr>
            <p:spPr>
              <a:xfrm flipH="1">
                <a:off x="3214800" y="4359240"/>
                <a:ext cx="179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68"/>
              <p:cNvSpPr/>
              <p:nvPr/>
            </p:nvSpPr>
            <p:spPr>
              <a:xfrm>
                <a:off x="3215520" y="4359600"/>
                <a:ext cx="663480" cy="72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0"/>
          <p:cNvSpPr/>
          <p:nvPr/>
        </p:nvSpPr>
        <p:spPr>
          <a:xfrm>
            <a:off x="179280" y="3860640"/>
            <a:ext cx="8964720" cy="161856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dding water to anhydrous copper sulphate 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exothermi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hydrous copper sulphate is whi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Anhydrous is pronounced "an-high-drus“ Anhydrous means "without water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hydrous copper sulphate is copper sulphate which is completely dry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water is added to it, it turns into the familiar hydrated blue cryst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ated copper sulphate          anhydrous copper sulphate +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3492000" y="1196640"/>
            <a:ext cx="576720" cy="217440"/>
            <a:chOff x="3492000" y="1196640"/>
            <a:chExt cx="576720" cy="217440"/>
          </a:xfrm>
        </p:grpSpPr>
        <p:grpSp>
          <p:nvGrpSpPr>
            <p:cNvPr id="158" name="Group 13"/>
            <p:cNvGrpSpPr/>
            <p:nvPr/>
          </p:nvGrpSpPr>
          <p:grpSpPr>
            <a:xfrm>
              <a:off x="3492360" y="1196640"/>
              <a:ext cx="576360" cy="43920"/>
              <a:chOff x="3492360" y="1196640"/>
              <a:chExt cx="576360" cy="43920"/>
            </a:xfrm>
          </p:grpSpPr>
          <p:sp>
            <p:nvSpPr>
              <p:cNvPr id="159" name="Line 14"/>
              <p:cNvSpPr/>
              <p:nvPr/>
            </p:nvSpPr>
            <p:spPr>
              <a:xfrm>
                <a:off x="3492360" y="12405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15"/>
              <p:cNvSpPr/>
              <p:nvPr/>
            </p:nvSpPr>
            <p:spPr>
              <a:xfrm flipH="1" flipV="1">
                <a:off x="3855960" y="1196640"/>
                <a:ext cx="212400" cy="4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3492000" y="1370160"/>
              <a:ext cx="576360" cy="43920"/>
              <a:chOff x="3492000" y="1370160"/>
              <a:chExt cx="576360" cy="43920"/>
            </a:xfrm>
          </p:grpSpPr>
          <p:sp>
            <p:nvSpPr>
              <p:cNvPr id="162" name="Line 17"/>
              <p:cNvSpPr/>
              <p:nvPr/>
            </p:nvSpPr>
            <p:spPr>
              <a:xfrm flipH="1">
                <a:off x="3492000" y="13701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8"/>
              <p:cNvSpPr/>
              <p:nvPr/>
            </p:nvSpPr>
            <p:spPr>
              <a:xfrm>
                <a:off x="3492360" y="1370520"/>
                <a:ext cx="212400" cy="4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Text Box 19"/>
          <p:cNvSpPr/>
          <p:nvPr/>
        </p:nvSpPr>
        <p:spPr>
          <a:xfrm>
            <a:off x="395280" y="1844640"/>
            <a:ext cx="8353440" cy="131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Hydrated is pronounced "high-dray-tid", it means 'with water'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f blue (hydrated) copper sulphate are heated, 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endothermi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reaction occurs, they lose their water, turn white and become anhydrous copper sulph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24000" y="189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reaction is rever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1"/>
          <p:cNvSpPr/>
          <p:nvPr/>
        </p:nvSpPr>
        <p:spPr>
          <a:xfrm>
            <a:off x="0" y="260280"/>
            <a:ext cx="8964720" cy="2558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ork in groups of four and carry out the following experi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1. Place about 4 spatulas of hydrated copper sulphate in a crush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2. Heat the copper sulphate using a hot plate until it changes col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3. Leave it to cool down for 5 min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4. Place the 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crucible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 student should hold the bottom of the tube carefully while the partner adds water drop by drop from a pipet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0" y="328464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Answer the following questions in your books (in full sentence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was the copper sulphate at the st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was the copper sulphate at the e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id you observe at the top of the tub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colour did the copper sulphate change to after adding the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oes blue copper sulphate have that white copper sulphate doesn’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at did you feel at the bottom of the tube after adding the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ich reaction was exotherm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Which reaction was endotherm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5:47:49Z</dcterms:created>
  <dc:creator>HP registered user</dc:creator>
  <dc:description/>
  <dc:language>en-US</dc:language>
  <cp:lastModifiedBy>Andrea Pascasio</cp:lastModifiedBy>
  <dcterms:modified xsi:type="dcterms:W3CDTF">2008-12-31T06:08:41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